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C671-34CB-4DAA-97CA-F8C84F3F0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3B2C-5BA2-4884-80D7-6B75EF61E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AD03-AF3D-4E4C-A23C-5E1431E26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F6BB-79D6-4F8C-A2A6-F2E5017E2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F396-8DC6-49AC-BEBD-9CD8E1A31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9AE3-C272-4E84-ACF3-19EECB960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05348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9164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08984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0628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7220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672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06284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45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23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onsumer Credit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0696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7220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0574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20T18:25:35Z</dcterms:modified>
  <cp:revision>33</cp:revision>
  <dc:subject/>
  <dc:title>lesson three</dc:title>
</cp:coreProperties>
</file>