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15CB-0198-4927-95BB-3A4E04D64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8152-8B4D-47AE-BD29-F50BCEAB1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E239-7272-4386-9A83-A3DFF8003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2D7E-3F38-4257-9535-54C77FF41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78C8-10C0-4AE0-99AF-5512DBFB6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umer privac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606840"/>
            <a:ext cx="64296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credit report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dentifying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, Social Security number, address, and sometimes phone number, previous address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nd employ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credit history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evious and current types of credit, credit providers, payment habits, outstanding obligations and debts, and extent of credit grant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ublic record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Usually limited to tax liens, judgments, and bankrupt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or requester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s of those who have requested information about this consumer in the recent pa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917400" y="6323400"/>
            <a:ext cx="181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viewing your credit repor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ipulates that an individual, upon request to the consumer-reporting agency, may have access to a copy of his or her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019920" y="2133720"/>
            <a:ext cx="27432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nsUnion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umer Relation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00-916-8800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nsunio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533520" y="2133720"/>
            <a:ext cx="23619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perian Consumer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sistance Center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88-397-3742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a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429000" y="2133720"/>
            <a:ext cx="1781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quifax Credit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formation Service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00-685-1111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quifax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457200" y="3581280"/>
            <a:ext cx="800100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receive a copy of your credit report, contact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itional questions about your credit report rights can be directed to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ederal Trade Commission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tccomplaintassistant.gov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6953760" y="6323400"/>
            <a:ext cx="176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elecommunication devices and serv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lephone (including cellular phon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csimiles (fax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line computer ser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ller I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utomatic Number Identification (ANI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6960600" y="6323400"/>
            <a:ext cx="17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lectronic monitoring in the workplac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ypes of electronic monitoring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Voice mail and electronic mail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keystrokes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ocational detect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urveillance video came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6925320" y="6323400"/>
            <a:ext cx="180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cy and informa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nformation privacy: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ivacy that involves the rights of individuals in relation to information about them that is circulating in societ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privacy is an important issue in the Information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systems record and store a lot of information about us and our consumer activi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ublic and private organizations can share our computer files. For example, the IRS can acc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financial data about you from your bank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data can travel and change hands in just a few sec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Because of these factors, accurate data is paramou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information privacy is a sensitive iss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nformation is a very valuable resou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ess to information in our society today offers many benefits to consumers, but also pose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potential threat to our privac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22800" y="6323400"/>
            <a:ext cx="180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information generally available from public source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emographic information (U.S. cens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elephone director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irth, marriage, and divor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Voter registration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ampaign contribu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s/vehicle registr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icenses and permits (hunting, fishing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egal information (judgments, bankruptcies, real estate titles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6928200" y="6323400"/>
            <a:ext cx="180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te databases available to only those with a legitimate purpos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mployment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repo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information (IRS/state tax board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imin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rvice records (welfare, Medicaid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choo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928920" y="6323400"/>
            <a:ext cx="179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mending or correcting recor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vacy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requires each federal agency that maintains records to permit individuals to request amendment of his or her recor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o amend or expunge a record you mus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ntact the agency in ques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wait administrative review of requ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f request is denied, you can request a court revie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Fair Credit Reporting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gives consumers the right to dispute inaccurate information and permits them to insert their own version of disputed information into a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921360" y="6323400"/>
            <a:ext cx="181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database profile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atabase profiles are files of information about you that are stored in computer systems and may be used by a variety of organiz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This information include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hone and fax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curity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card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ank account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tudent loan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ing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Worker’s compensation and insuran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olitical affili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pending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oduct prefer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stimated inco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6936120" y="6323400"/>
            <a:ext cx="1788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: federal privacy protec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0: 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uarantees consumer rights in the collection and reporting of information for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redit, employment, insurance, and other consumer business transac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American citizens the right to request, inspect, and challenge their own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feder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Family Educational Rights and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parents and students over 18 access to the student’s schoo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5: Equal Credit Opportunit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Outlaws discrimination in granting credit due to age, gender, marital status,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religion, ethnicity, national origin, or receipt of public assistan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6: Tax Reform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imits disclosure of tax information and requires that taxpayers be notified wh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heir tax records are summoned from record keep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Rights to Financial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ets conditions under which federal investigators can access an individual’s bank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ount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6942960" y="6323400"/>
            <a:ext cx="178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: federal privacy protec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Electronic Fund Transfer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Requires banks that provide EFT services to disclose the circumstances under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which account information can be disclosed to third par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0: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ess and others that disseminate information to the public from unlawful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government searches and seizure of their work product and other materia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4: Cable Communications Poli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ivacy of cable television subscriber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6: Electronic Communications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ivacy of electronic communications and transactional data such a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telephone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Computer Matching and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individual privacy in connection with government benefit programs in whic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 individual’s records at one government agency are compared against similar recor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t other agen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Video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Mandates a court order to gain access to videocassette rent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1: Telephone Consumer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onsumers from unwanted telemarketing calls, and restricts the timing of call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d the use of auto-dialers in telemarket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942960" y="6323400"/>
            <a:ext cx="178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otecting your privacy: your options as a consume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opting out” of direct marketing progra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sk merchant to be removed from his/her mailing li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Select “unsubscribe” link at the bottom of marketing emails and follow the instructions provi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Visit the Direct Marketing Association website at: practicalmoneyskills.com/c6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or contact them at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225 Reinekers Lane, Suite 32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lexandria, VA 223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+1 212.768.727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n order to opt out for five years or permanently through the national credit reporting agencies, call 1-888-5-OPT-OUT (1-888-567-8688) or go to practicalmoneyskills.com/c6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your options as a consum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nswer only necessary information on product warranty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Never give out personal or financial information over the phone unless you know the company and know how the information will be u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Don’t give personal information at point-of-sale transac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f a telemarketer calls and you don’t want future solicitations, cite the federal law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919920" y="6323400"/>
            <a:ext cx="1806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9T23:10:28Z</dcterms:modified>
  <cp:revision>54</cp:revision>
  <dc:subject/>
  <dc:title>lesson three</dc:title>
</cp:coreProperties>
</file>